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373-67F3-4CC5-A103-8C92282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94A-FD0A-4674-B1C7-7622CB25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890-3959-4618-8805-6DF35CF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0AC-0DDA-4F10-B781-0D4251FE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7BF-7376-46F6-A101-81A31531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321-FF32-4E9E-8A77-468B4700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B86-BF42-4284-B17E-79464436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E1C-FB04-4E05-BDC7-19B82648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A0B-6A26-4CDF-9B9A-EDC086FD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F12-76ED-4FE9-99FF-B5D6F37C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605-7D5B-42AF-BD0F-BCDD61F0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83F-6220-4ECD-AABB-EEC59B2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099-BC15-47B9-9152-FD010662BBE9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3300"/>
                </a:solidFill>
                <a:latin typeface="Comic Sans MS"/>
              </a:rPr>
              <a:t>      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00080" y="2286000"/>
            <a:ext cx="7693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 Sans MS"/>
              </a:rPr>
              <a:t>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Tutor: prof.ssa Gabriella Santo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2637000"/>
          <a:ext cx="8137800" cy="342900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20720"/>
                <a:gridCol w="432000"/>
              </a:tblGrid>
              <a:tr h="134172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400" spc="-1" strike="noStrike">
                          <a:solidFill>
                            <a:srgbClr val="005ec0"/>
                          </a:solidFill>
                          <a:latin typeface="Arial"/>
                        </a:rPr>
                        <a:t>Formazione D.Lgs. 81/2008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e2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ner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4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  <a:tr h="859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f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chio medi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8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ore ogni 5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</a:tr>
              <a:tr h="859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fica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chio al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12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ore ogni 5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</a:tbl>
          </a:graphicData>
        </a:graphic>
      </p:graphicFrame>
      <p:pic>
        <p:nvPicPr>
          <p:cNvPr id="51" name="Immagine 4" descr=""/>
          <p:cNvPicPr/>
          <p:nvPr/>
        </p:nvPicPr>
        <p:blipFill>
          <a:blip r:embed="rId1"/>
          <a:stretch/>
        </p:blipFill>
        <p:spPr>
          <a:xfrm>
            <a:off x="3009960" y="189000"/>
            <a:ext cx="6134040" cy="1727280"/>
          </a:xfrm>
          <a:prstGeom prst="rect">
            <a:avLst/>
          </a:prstGeom>
          <a:ln w="0">
            <a:noFill/>
          </a:ln>
        </p:spPr>
      </p:pic>
      <p:sp>
        <p:nvSpPr>
          <p:cNvPr id="52" name="CasellaDiTesto 2"/>
          <p:cNvSpPr/>
          <p:nvPr/>
        </p:nvSpPr>
        <p:spPr>
          <a:xfrm>
            <a:off x="971640" y="6021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RSPP – ASPP – Enti var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3300"/>
                </a:solidFill>
                <a:latin typeface="Comic Sans MS"/>
              </a:rPr>
              <a:t>      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00080" y="2285640"/>
            <a:ext cx="76932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 Sans MS"/>
              </a:rPr>
              <a:t>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Tutor: prof.ssa Gabriella Santo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2637000"/>
          <a:ext cx="8137800" cy="3031920"/>
        </p:xfrm>
        <a:graphic>
          <a:graphicData uri="http://schemas.openxmlformats.org/drawingml/2006/table">
            <a:tbl>
              <a:tblPr/>
              <a:tblGrid>
                <a:gridCol w="4248360"/>
                <a:gridCol w="3889440"/>
              </a:tblGrid>
              <a:tr h="14324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Formazione</a:t>
                      </a:r>
                      <a:r>
                        <a:rPr b="0" lang="it-IT" sz="4400" spc="-1" strike="noStrike">
                          <a:solidFill>
                            <a:srgbClr val="005ec0"/>
                          </a:solidFill>
                          <a:latin typeface="Arial"/>
                        </a:rPr>
                        <a:t> RLS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e2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mazione bas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32 ore 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 ore ogni an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  <a:tr h="7621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Formazione Preposti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mazione bas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8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ore ogni 5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</a:tbl>
          </a:graphicData>
        </a:graphic>
      </p:graphicFrame>
      <p:pic>
        <p:nvPicPr>
          <p:cNvPr id="56" name="Immagine 4" descr=""/>
          <p:cNvPicPr/>
          <p:nvPr/>
        </p:nvPicPr>
        <p:blipFill>
          <a:blip r:embed="rId1"/>
          <a:stretch/>
        </p:blipFill>
        <p:spPr>
          <a:xfrm>
            <a:off x="3009960" y="189000"/>
            <a:ext cx="6134040" cy="17272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684360" y="6021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USL – Enti var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3300"/>
                </a:solidFill>
                <a:latin typeface="Comic Sans MS"/>
              </a:rPr>
              <a:t>      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2285640"/>
            <a:ext cx="76932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 Sans MS"/>
              </a:rPr>
              <a:t>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Tutor: prof.ssa Gabriella Santo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26920" y="2637000"/>
          <a:ext cx="8137800" cy="3031920"/>
        </p:xfrm>
        <a:graphic>
          <a:graphicData uri="http://schemas.openxmlformats.org/drawingml/2006/table">
            <a:tbl>
              <a:tblPr/>
              <a:tblGrid>
                <a:gridCol w="4248360"/>
                <a:gridCol w="3889440"/>
              </a:tblGrid>
              <a:tr h="14324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5ec0"/>
                          </a:solidFill>
                          <a:latin typeface="Arial"/>
                        </a:rPr>
                        <a:t>Formazione Primo Soccorso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e2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mazione base 12 or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 teoriche + 4 pratich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ore ogni 3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  <a:tr h="7621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azione Defibrillatore BLSD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ormazione base 5 or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pratich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ore ogni 2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</a:tbl>
          </a:graphicData>
        </a:graphic>
      </p:graphicFrame>
      <p:pic>
        <p:nvPicPr>
          <p:cNvPr id="61" name="Immagine 4" descr=""/>
          <p:cNvPicPr/>
          <p:nvPr/>
        </p:nvPicPr>
        <p:blipFill>
          <a:blip r:embed="rId1"/>
          <a:stretch/>
        </p:blipFill>
        <p:spPr>
          <a:xfrm>
            <a:off x="3009960" y="189000"/>
            <a:ext cx="6134040" cy="172728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2"/>
          <p:cNvSpPr/>
          <p:nvPr/>
        </p:nvSpPr>
        <p:spPr>
          <a:xfrm>
            <a:off x="684360" y="6021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USL – 118 – Pronto soccorso di Bolog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704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3300"/>
                </a:solidFill>
                <a:latin typeface="Comic Sans MS"/>
              </a:rPr>
              <a:t>      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00080" y="2286000"/>
            <a:ext cx="7693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Comic Sans MS"/>
              </a:rPr>
              <a:t>A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Tutor: prof.ssa Gabriella Santo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26920" y="2637000"/>
          <a:ext cx="8137800" cy="3017520"/>
        </p:xfrm>
        <a:graphic>
          <a:graphicData uri="http://schemas.openxmlformats.org/drawingml/2006/table">
            <a:tbl>
              <a:tblPr/>
              <a:tblGrid>
                <a:gridCol w="2232360"/>
                <a:gridCol w="2016000"/>
                <a:gridCol w="1944720"/>
                <a:gridCol w="1944720"/>
              </a:tblGrid>
              <a:tr h="1432440"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400" spc="-1" strike="noStrike">
                          <a:solidFill>
                            <a:srgbClr val="005ec0"/>
                          </a:solidFill>
                          <a:latin typeface="Arial"/>
                        </a:rPr>
                        <a:t>Formazione Antincendio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e2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chio medi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no a 300 unit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8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5 teor.+3 prat.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ore ogni 3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doneità tec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N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chio medi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 300 a 1000 unità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8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5 teor.+3 prat.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ore ogni 3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doneità tec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chio al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ù di 1000 unità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rso di 16 o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2 teor.+4 prat.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giorn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 ore ogni 3 an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doneità tecn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f80"/>
                          </a:solidFill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f4f4"/>
                    </a:solidFill>
                  </a:tcPr>
                </a:tc>
              </a:tr>
            </a:tbl>
          </a:graphicData>
        </a:graphic>
      </p:graphicFrame>
      <p:pic>
        <p:nvPicPr>
          <p:cNvPr id="66" name="Immagine 4" descr=""/>
          <p:cNvPicPr/>
          <p:nvPr/>
        </p:nvPicPr>
        <p:blipFill>
          <a:blip r:embed="rId1"/>
          <a:stretch/>
        </p:blipFill>
        <p:spPr>
          <a:xfrm>
            <a:off x="3009960" y="189000"/>
            <a:ext cx="6134040" cy="1727280"/>
          </a:xfrm>
          <a:prstGeom prst="rect">
            <a:avLst/>
          </a:prstGeom>
          <a:ln w="0">
            <a:noFill/>
          </a:ln>
        </p:spPr>
      </p:pic>
      <p:sp>
        <p:nvSpPr>
          <p:cNvPr id="67" name="CasellaDiTesto 2"/>
          <p:cNvSpPr/>
          <p:nvPr/>
        </p:nvSpPr>
        <p:spPr>
          <a:xfrm>
            <a:off x="971640" y="6021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omando dei Vigili del Fuoco di Bolog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0:42:31Z</dcterms:created>
  <dc:creator>LSRIGHI</dc:creator>
  <dc:description/>
  <dc:language>en-US</dc:language>
  <cp:lastModifiedBy>Domenico Altamura</cp:lastModifiedBy>
  <cp:lastPrinted>2015-09-10T13:27:38Z</cp:lastPrinted>
  <dcterms:modified xsi:type="dcterms:W3CDTF">2018-03-09T18:56:58Z</dcterms:modified>
  <cp:revision>269</cp:revision>
  <dc:subject/>
  <dc:title>Proposta di scansione dell’anno scolastico </dc:title>
</cp:coreProperties>
</file>